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B4C-1B2E-474D-A40B-50E5975A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8B1-9A7C-4A93-A7D6-35AC1D9D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022-331E-42BD-B352-BB1093BF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9C4-E436-42C9-8039-0C1EB7AB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6C5F-98BC-4374-862E-D9E50B15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D544-FD4C-4C15-82B3-67E73A6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5BEC-85A2-4E04-9189-D6F0BFF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D3FF-7478-4D63-B669-C7D2FC88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E040-E88F-4A71-95BC-E5129449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DC93-7C3D-476B-A58D-C9E5FCD0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B8F5-29DA-4D56-A0D4-560DAB01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5A7-A74F-4412-9F2C-CEC46BD4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F205-2F94-4AE6-8359-E2163E0F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CC94-F681-4CDC-9416-02C6810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EC22-30A6-476F-87BA-F6804E0B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5678-77D8-417A-8053-9581FFAC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A46D-48C9-46E5-9CF1-1B4FB8CE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B0D-497B-4B1B-B23B-4D1BF442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863-351C-4800-9502-2996BAA4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C5D-552A-4C08-899A-D9E1BE30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D25-3D5F-4180-A8F5-CEA7DBCA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782-73ED-43BE-A337-CF4E7D6F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CAE-8A45-4D4C-BE51-AA15D9D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6B8-5B70-49B7-8D1D-0ADEBB0C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80FC-437C-416D-920B-D28DD25FB5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CD53-F02E-4390-8F68-07825C712D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he Tragic Hero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ing your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fin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cannot become a hero until he sees the root of his own downfall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either die a hero or live long enough to see yourself become the villain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vey 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e rarely calls upon us at a moment of our choo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us P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ve Elements of the Tragic Her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of noble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artia – tragic flaw that brings about the ultimate down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eteia – reversal of fortune brought about by the tragic hero’s f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result in an increase of self-awareness and self-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ence must feel pity and fear for this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ther common tra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fall due to excessive pride (hub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med from the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e discovered through own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a king or leader of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ing of the hero must hav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ways male (Cleopatra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tony and Cleopa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dern Tragic Hero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y Loman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ath of a Sale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ry Smith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Cold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25:58Z</dcterms:created>
  <dc:creator>jvanengen</dc:creator>
  <dc:description/>
  <dc:language>en-US</dc:language>
  <cp:lastModifiedBy>Administrator</cp:lastModifiedBy>
  <dcterms:modified xsi:type="dcterms:W3CDTF">2011-08-28T18:09:38Z</dcterms:modified>
  <cp:revision>6</cp:revision>
  <dc:subject/>
  <dc:title>The Tragic Hero</dc:title>
</cp:coreProperties>
</file>